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291D-8964-4DCB-A048-C04CB5FC4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0767-1C73-488B-817A-202673E0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9F11-A886-49C6-A3E1-592ECA7B3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0265-8E78-4568-BC29-953CF0AC5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1BE2-38F3-4A21-80F9-3A6735E5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4676-9320-46BD-9195-FEBC5777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EEF6-BB4D-4A00-91BF-4A496599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71CC-90D3-496F-838B-E5D28B22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1A7E-FE68-4737-90E7-776549DD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3BD8-BD9C-4B00-935A-D7F2CD40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51CD-FD41-4671-B660-D4F0AB8C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FBC2-54EC-491F-BB04-4B1030F2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DB6E-A694-4E54-B744-C0346353A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Times New Roman"/>
              </a:rPr>
              <a:t>PR</a:t>
            </a:r>
            <a:r>
              <a:rPr b="0" lang="en-US" sz="7200" spc="-1" strike="noStrike">
                <a:solidFill>
                  <a:srgbClr val="ff6633"/>
                </a:solidFill>
                <a:latin typeface="Times New Roman"/>
              </a:rPr>
              <a:t>IN</a:t>
            </a:r>
            <a:r>
              <a:rPr b="0" lang="en-US" sz="7200" spc="-1" strike="noStrike">
                <a:solidFill>
                  <a:srgbClr val="ff5050"/>
                </a:solidFill>
                <a:latin typeface="Times New Roman"/>
              </a:rPr>
              <a:t>CI</a:t>
            </a:r>
            <a:r>
              <a:rPr b="0" lang="en-US" sz="7200" spc="-1" strike="noStrike">
                <a:solidFill>
                  <a:srgbClr val="ff0066"/>
                </a:solidFill>
                <a:latin typeface="Times New Roman"/>
              </a:rPr>
              <a:t>PLES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ff3399"/>
                </a:solidFill>
                <a:latin typeface="Times New Roman"/>
              </a:rPr>
              <a:t>OF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2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500" spc="-1" strike="noStrike">
                <a:solidFill>
                  <a:srgbClr val="000000"/>
                </a:solidFill>
                <a:latin typeface="Times New Roman"/>
              </a:rPr>
              <a:t>TR</a:t>
            </a:r>
            <a:r>
              <a:rPr b="1" lang="en-US" sz="9500" spc="-1" strike="noStrike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en-US" sz="9500" spc="-1" strike="noStrike">
                <a:solidFill>
                  <a:srgbClr val="1c1c1c"/>
                </a:solidFill>
                <a:latin typeface="Times New Roman"/>
              </a:rPr>
              <a:t>I</a:t>
            </a:r>
            <a:r>
              <a:rPr b="1" lang="en-US" sz="9500" spc="-1" strike="noStrike">
                <a:solidFill>
                  <a:srgbClr val="4d4d4d"/>
                </a:solidFill>
                <a:latin typeface="Times New Roman"/>
              </a:rPr>
              <a:t>N</a:t>
            </a:r>
            <a:r>
              <a:rPr b="1" lang="en-US" sz="9500" spc="-1" strike="noStrike">
                <a:solidFill>
                  <a:srgbClr val="5f5f5f"/>
                </a:solidFill>
                <a:latin typeface="Times New Roman"/>
              </a:rPr>
              <a:t>I</a:t>
            </a:r>
            <a:r>
              <a:rPr b="1" lang="en-US" sz="9500" spc="-1" strike="noStrike">
                <a:solidFill>
                  <a:srgbClr val="777777"/>
                </a:solidFill>
                <a:latin typeface="Times New Roman"/>
              </a:rPr>
              <a:t>N</a:t>
            </a:r>
            <a:r>
              <a:rPr b="1" lang="en-US" sz="9500" spc="-1" strike="noStrike">
                <a:solidFill>
                  <a:srgbClr val="868686"/>
                </a:solidFill>
                <a:latin typeface="Times New Roman"/>
              </a:rPr>
              <a:t>G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 u="sng">
                <a:solidFill>
                  <a:srgbClr val="ff3300"/>
                </a:solidFill>
                <a:uFillTx/>
                <a:latin typeface="Times New Roman"/>
              </a:rPr>
              <a:t>DURATIO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How long a session / program goes f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Minimum of 20-30 minu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Aerobic - minimum of 6 weeks, though more likely 1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Anaerobic - 6 - 8 wee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570640" y="1981080"/>
          <a:ext cx="1949400" cy="40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0640" y="1981080"/>
                    <a:ext cx="194940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3333cc"/>
                </a:solidFill>
                <a:uFillTx/>
                <a:latin typeface="Times New Roman"/>
              </a:rPr>
              <a:t>INDIVIDUALIT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5800" y="2249640"/>
          <a:ext cx="3778200" cy="35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49640"/>
                    <a:ext cx="3778200" cy="35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Different athletes have different needs and therefore need to train according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Difference in sports, positions &amp; fitness lev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 u="sng">
                <a:solidFill>
                  <a:srgbClr val="ff0033"/>
                </a:solidFill>
                <a:uFillTx/>
                <a:latin typeface="Times New Roman"/>
              </a:rPr>
              <a:t>VARIETY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 Can help maintain interest and 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who you t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you t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you t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n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ining di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648320" y="2254320"/>
          <a:ext cx="3794040" cy="35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54320"/>
                    <a:ext cx="379404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cc"/>
                </a:solidFill>
                <a:uFillTx/>
                <a:latin typeface="Times New Roman"/>
              </a:rPr>
              <a:t>DIMINISHING RETUR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it athlete will not progress at the same initial rate as an unfit ath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st results will be shown at the beginning of a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492200" y="1981080"/>
          <a:ext cx="2163960" cy="40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2200" y="1981080"/>
                    <a:ext cx="216396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 u="sng">
                <a:solidFill>
                  <a:srgbClr val="ff3300"/>
                </a:solidFill>
                <a:uFillTx/>
                <a:latin typeface="Times New Roman"/>
              </a:rPr>
              <a:t>DETRAININ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ce you stop training you start to lose the benefits.  The less you have trained, the quicker the lo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35003" t="3331" r="13748" b="0"/>
          <a:stretch/>
        </p:blipFill>
        <p:spPr>
          <a:xfrm>
            <a:off x="1136520" y="1981080"/>
            <a:ext cx="290844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3300"/>
                </a:solidFill>
                <a:uFillTx/>
                <a:latin typeface="Times New Roman"/>
              </a:rPr>
              <a:t>MAINTENANC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 can maintain the benefits of training with a reduction in frequency, but not in intensit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054760" y="1981080"/>
          <a:ext cx="2963880" cy="40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54760" y="1981080"/>
                    <a:ext cx="296388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 u="sng">
                <a:solidFill>
                  <a:srgbClr val="3333cc"/>
                </a:solidFill>
                <a:uFillTx/>
                <a:latin typeface="Times New Roman"/>
              </a:rPr>
              <a:t>RETRAINING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628640" y="1981080"/>
          <a:ext cx="1890720" cy="40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8640" y="1981080"/>
                    <a:ext cx="189072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 who have trained previously take just as long to show improvements as those who have not trained at 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cc"/>
                </a:solidFill>
                <a:uFillTx/>
                <a:latin typeface="Times New Roman"/>
              </a:rPr>
              <a:t>PRINCIPLES OF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85800" y="2214720"/>
          <a:ext cx="3778200" cy="361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14720"/>
                    <a:ext cx="3778200" cy="36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PECIFICIT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ROGRESSIVE OVERLOA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INTENCIT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DURA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INDIVIDUALIT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DIMINISHING RETUR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cc"/>
                </a:solidFill>
                <a:uFillTx/>
                <a:latin typeface="Times New Roman"/>
              </a:rPr>
              <a:t>PRINCIPLES OF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5800" y="2214720"/>
          <a:ext cx="3778200" cy="361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14720"/>
                    <a:ext cx="3778200" cy="36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VARIET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REVERSIBILITY / DETRAINING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MAINTENANC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RETRAINING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PROGRESS SHOULD BE MEASURAB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 u="sng">
                <a:solidFill>
                  <a:srgbClr val="ff3300"/>
                </a:solidFill>
                <a:uFillTx/>
                <a:latin typeface="Times New Roman"/>
              </a:rPr>
              <a:t>SPECIFICIT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1. ENERGY SYSTEM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2. FITNESS COMPONEN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3. MUSCLE GROUP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4. SKILL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423040" y="1981080"/>
          <a:ext cx="2226960" cy="40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3040" y="1981080"/>
                    <a:ext cx="222696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3300"/>
                </a:solidFill>
                <a:uFillTx/>
                <a:latin typeface="Times New Roman"/>
              </a:rPr>
              <a:t>PROGRESSIVE OVERLO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1. Increasing the training workload allows the body to adapt to greater stresse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2.  This can be done by increasing either frequency, intensity or dur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47505" t="6669" r="10004" b="6669"/>
          <a:stretch/>
        </p:blipFill>
        <p:spPr>
          <a:xfrm>
            <a:off x="1219320" y="1600200"/>
            <a:ext cx="298908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VARIABLES TO APLLY TO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PROGRESSIVE OVERL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istance of work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ime of work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ime of recover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# of rep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# of set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# of sessions / week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mount of resistanc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range of mo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21248" t="6669" r="22500" b="5000"/>
          <a:stretch/>
        </p:blipFill>
        <p:spPr>
          <a:xfrm>
            <a:off x="843120" y="1752480"/>
            <a:ext cx="3687480" cy="4343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 u="sng">
                <a:solidFill>
                  <a:srgbClr val="3333cc"/>
                </a:solidFill>
                <a:uFillTx/>
                <a:latin typeface="Times New Roman"/>
              </a:rPr>
              <a:t>FREQUENC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Generally the more often you train and the longer the program goes for, the greater the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Min of 3 sessions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Aerobic capacity 4 or 5 s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Anaerobic needs 3 - 5 s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Athletes need res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607000" y="1981080"/>
          <a:ext cx="1859040" cy="40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07000" y="1981080"/>
                    <a:ext cx="18590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 u="sng">
                <a:solidFill>
                  <a:srgbClr val="ff3300"/>
                </a:solidFill>
                <a:uFillTx/>
                <a:latin typeface="Times New Roman"/>
              </a:rPr>
              <a:t>INTENSITY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862280" y="1981080"/>
          <a:ext cx="1439640" cy="40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2280" y="1981080"/>
                    <a:ext cx="143964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How hard you             t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Minimum of   70% of Max Heart Rate (MH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erobic thres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 Aerobic sessions 70 - 8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ed sessions 85 - 100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 u="sng">
                <a:solidFill>
                  <a:srgbClr val="ff3300"/>
                </a:solidFill>
                <a:uFillTx/>
                <a:latin typeface="Times New Roman"/>
              </a:rPr>
              <a:t>INTENSITY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862280" y="1981080"/>
          <a:ext cx="1439640" cy="40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2280" y="1981080"/>
                    <a:ext cx="143964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P-CP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5% - 100% M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5% - 95% M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EROBIC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0 - 85% M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7T08:46:06Z</dcterms:created>
  <dc:creator>.</dc:creator>
  <dc:description/>
  <dc:language>en-US</dc:language>
  <cp:lastModifiedBy>Setup</cp:lastModifiedBy>
  <cp:lastPrinted>2000-03-08T05:05:50Z</cp:lastPrinted>
  <dcterms:modified xsi:type="dcterms:W3CDTF">2006-07-30T22:33:20Z</dcterms:modified>
  <cp:revision>26</cp:revision>
  <dc:subject/>
  <dc:title>PRINCIPALS  OF</dc:title>
</cp:coreProperties>
</file>